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410-4227-45D8-ADC2-0E3F75C2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C8E-5552-4A39-A5D4-95ABB5E3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EF4-FEA1-4BCF-958F-F1295057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322-742E-4A20-AD6F-C8B46B42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136-9F36-48D2-AE3B-9059C2E6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225-F91D-4B34-AC6C-E14329FE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221-1D76-46F2-9F00-6BFBB57F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109-A5FE-44D8-BBD7-D369F94C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C0A-2DF8-402A-9EA4-8C06347F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9BE-8357-4CC3-9669-10C64407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BE6-03A7-49E1-9827-D26F3A09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C79-9F0D-4A93-91FE-EED39B35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5EC2-A1C5-4234-A058-B8958FFEA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80" y="625320"/>
            <a:ext cx="82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4.6 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Identify and Graph 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Evaluate Fractions Containing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9000" y="35186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n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35812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ny number that you can write as a fraction of two integers, where the denominator is not zero. (a decimal that terminates or repea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720" y="4532400"/>
            <a:ext cx="221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ing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80720" y="451008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, 2, 3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6840" y="51418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0, 1, 2, 3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08040" y="55990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3, -2, -1, 0, 1, 2, 3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0920" y="20937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tion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57520" y="2093760"/>
            <a:ext cx="54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decimal that is non-terminating and non-rep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762120"/>
            <a:ext cx="8153280" cy="518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7621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295280"/>
            <a:ext cx="2895480" cy="373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676520"/>
            <a:ext cx="2057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2057400"/>
            <a:ext cx="129564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7080" y="30420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05560" cy="196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3040" y="33663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3832200"/>
            <a:ext cx="83818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383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51055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. 203 # 2 – 34 every other 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4.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 for all Pos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6160" y="3618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8:47:55Z</dcterms:created>
  <dc:creator>Susannah Graham</dc:creator>
  <dc:description/>
  <dc:language>en-US</dc:language>
  <cp:lastModifiedBy>grahams</cp:lastModifiedBy>
  <dcterms:modified xsi:type="dcterms:W3CDTF">2011-12-19T17:50:48Z</dcterms:modified>
  <cp:revision>8</cp:revision>
  <dc:subject/>
  <dc:title>Homework to go over in groups: Homework:  p. 189  #18 – 24 even      p. 194 #28 – 34 even     and  p. 195 #56 </dc:title>
</cp:coreProperties>
</file>